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C427-5574-4B1E-8715-5D14DEE002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F14FA-0E07-40E3-AEFF-5787D483D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D7377-B002-4F94-8133-30C44A497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26B97-67F0-4519-8453-7D10D529B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B0751-F9A6-44E5-8D25-47AF18081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3F3DB-DDF6-4E56-A7E2-31610B3F6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866E1-CFCE-4930-A8A9-52848BB86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16286-5039-451C-8886-9B0FB23D0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21A67-DD69-4530-873D-4B7A00E7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7CDE9-9522-4F67-8E63-850B7440F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3338F-6BA9-48ED-B57C-96873E9AE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901BC-B01C-42ED-85A7-3D1D17B8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1831-A91D-4F39-AC2E-0034A33A4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19DA-290F-4709-BB27-547B733FF86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EBDC-4D26-4B36-A734-E05FBB8E3BBE}"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cp:lastModifiedBy>
  <dcterms:modified xsi:type="dcterms:W3CDTF">2016-12-07T08:31:55Z</dcterms:modified>
  <cp:revision>9</cp:revision>
  <dc:subject/>
  <dc:title>SUPPORT AND TRANSPORT IN PLANTS</dc:title>
</cp:coreProperties>
</file>